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5.png" ContentType="image/png"/>
  <Override PartName="/ppt/media/image7.gif" ContentType="image/gif"/>
  <Override PartName="/ppt/media/image1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gif" ContentType="image/gif"/>
  <Override PartName="/ppt/media/image9.jpeg" ContentType="image/jpeg"/>
  <Override PartName="/ppt/media/image11.jpeg" ContentType="image/jpeg"/>
  <Override PartName="/ppt/media/image10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CAB5-FEB0-4C66-8E25-99D1B4E8B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B831-AD52-4759-B555-5C6EA052D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012B-2E5E-42B8-A01F-18F705AF3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194C-30FE-4041-8019-518B94274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4692-75DD-40DF-94FB-2B9036776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5DFA-7177-4CC7-B2E5-721302E19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2275-07ED-49A8-99D2-4110C6E65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00FD-C219-48E3-A4C1-C25C9FEE6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DBE2-FAB9-49A1-BA11-DC275589B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0C07-7E39-44D9-B8B4-6AD64C69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3059-9C2E-4611-BD80-B702E132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E0F4-FC44-4B79-A5EE-EEBAD980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36B6E-964C-4A54-993C-4FB444B8CD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hyperlink" Target="http://st.free-lance.ru/users/sklavinica/upload/sm_f_4ae0310e7cf14.jpg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hyperlink" Target="http://www.1000dosok.ru/s/29-11-5628316.jpg" TargetMode="External"/><Relationship Id="rId3" Type="http://schemas.openxmlformats.org/officeDocument/2006/relationships/image" Target="../media/image13.jpeg"/><Relationship Id="rId4" Type="http://schemas.openxmlformats.org/officeDocument/2006/relationships/hyperlink" Target="http://www.ceramgzhel.ru/img/page_img/krug%20ruchnoi.jpg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gif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slide" Target="slide8.xml"/><Relationship Id="rId4" Type="http://schemas.openxmlformats.org/officeDocument/2006/relationships/slide" Target="slide12.xml"/><Relationship Id="rId5" Type="http://schemas.openxmlformats.org/officeDocument/2006/relationships/slide" Target="slide16.xml"/><Relationship Id="rId6" Type="http://schemas.openxmlformats.org/officeDocument/2006/relationships/slide" Target="slide20.xml"/><Relationship Id="rId7" Type="http://schemas.openxmlformats.org/officeDocument/2006/relationships/slide" Target="slide4.xml"/><Relationship Id="rId8" Type="http://schemas.openxmlformats.org/officeDocument/2006/relationships/slide" Target="slide9.xml"/><Relationship Id="rId9" Type="http://schemas.openxmlformats.org/officeDocument/2006/relationships/slide" Target="slide13.xml"/><Relationship Id="rId10" Type="http://schemas.openxmlformats.org/officeDocument/2006/relationships/slide" Target="slide17.xml"/><Relationship Id="rId11" Type="http://schemas.openxmlformats.org/officeDocument/2006/relationships/slide" Target="slide5.xml"/><Relationship Id="rId12" Type="http://schemas.openxmlformats.org/officeDocument/2006/relationships/slide" Target="slide14.xml"/><Relationship Id="rId13" Type="http://schemas.openxmlformats.org/officeDocument/2006/relationships/slide" Target="slide18.xml"/><Relationship Id="rId14" Type="http://schemas.openxmlformats.org/officeDocument/2006/relationships/slide" Target="slide21.xml"/><Relationship Id="rId15" Type="http://schemas.openxmlformats.org/officeDocument/2006/relationships/slide" Target="slide6.xml"/><Relationship Id="rId16" Type="http://schemas.openxmlformats.org/officeDocument/2006/relationships/slide" Target="slide10.xml"/><Relationship Id="rId17" Type="http://schemas.openxmlformats.org/officeDocument/2006/relationships/slide" Target="slide22.xml"/><Relationship Id="rId18" Type="http://schemas.openxmlformats.org/officeDocument/2006/relationships/slide" Target="slide7.xml"/><Relationship Id="rId19" Type="http://schemas.openxmlformats.org/officeDocument/2006/relationships/slide" Target="slide15.xml"/><Relationship Id="rId20" Type="http://schemas.openxmlformats.org/officeDocument/2006/relationships/slide" Target="slide19.xml"/><Relationship Id="rId21" Type="http://schemas.openxmlformats.org/officeDocument/2006/relationships/slide" Target="slide23.xml"/><Relationship Id="rId22" Type="http://schemas.openxmlformats.org/officeDocument/2006/relationships/slide" Target="slide11.xml"/><Relationship Id="rId2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hyperlink" Target="http://www.nationalufocenter.com/artman/uploads/01cromagnanman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hyperlink" Target="http://www.patent.net.ua/res/images/large/1908.jpg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ЗАНЯТИЯ ДРЕВНИХ ЛЮДЕЙ  </a:t>
            </a:r>
            <a:br>
              <a:rPr sz="4000"/>
            </a:b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(3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-360" y="1928520"/>
            <a:ext cx="89298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ота и собирательство стали основой для других занятий. Назовите их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4">
            <a:hlinkClick r:id="rId1" action="ppaction://hlinksldjump"/>
          </p:cNvPr>
          <p:cNvSpPr/>
          <p:nvPr/>
        </p:nvSpPr>
        <p:spPr>
          <a:xfrm>
            <a:off x="7993080" y="6281640"/>
            <a:ext cx="1150920" cy="576360"/>
          </a:xfrm>
          <a:custGeom>
            <a:avLst/>
            <a:gdLst>
              <a:gd name="textAreaLeft" fmla="*/ 37080 w 1150920"/>
              <a:gd name="textAreaRight" fmla="*/ 1113840 w 1150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3119" h="21600">
                <a:moveTo>
                  <a:pt x="0" y="0"/>
                </a:moveTo>
                <a:lnTo>
                  <a:pt x="43119" y="0"/>
                </a:lnTo>
                <a:lnTo>
                  <a:pt x="43119" y="21600"/>
                </a:lnTo>
                <a:lnTo>
                  <a:pt x="0" y="21600"/>
                </a:lnTo>
                <a:close/>
              </a:path>
              <a:path fill="lightenLess" w="43119" h="21600">
                <a:moveTo>
                  <a:pt x="0" y="0"/>
                </a:moveTo>
                <a:lnTo>
                  <a:pt x="43119" y="0"/>
                </a:lnTo>
                <a:lnTo>
                  <a:pt x="41719" y="1400"/>
                </a:lnTo>
                <a:lnTo>
                  <a:pt x="1400" y="1400"/>
                </a:lnTo>
                <a:close/>
              </a:path>
              <a:path fill="darken" w="43119" h="21600">
                <a:moveTo>
                  <a:pt x="43119" y="0"/>
                </a:moveTo>
                <a:lnTo>
                  <a:pt x="43119" y="21600"/>
                </a:lnTo>
                <a:lnTo>
                  <a:pt x="41719" y="20200"/>
                </a:lnTo>
                <a:lnTo>
                  <a:pt x="41719" y="1400"/>
                </a:lnTo>
                <a:close/>
              </a:path>
              <a:path fill="darkenLess" w="43119" h="21600">
                <a:moveTo>
                  <a:pt x="43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19" y="20200"/>
                </a:lnTo>
                <a:close/>
              </a:path>
              <a:path fill="lighten" w="43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19" h="21600">
                <a:moveTo>
                  <a:pt x="14553" y="10800"/>
                </a:moveTo>
                <a:lnTo>
                  <a:pt x="28566" y="3794"/>
                </a:lnTo>
                <a:lnTo>
                  <a:pt x="285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642960" y="4643280"/>
            <a:ext cx="8178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Скотоводство и земледел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ЗАНЯТИЯ ДРЕВНИХ ЛЮДЕЙ  </a:t>
            </a:r>
            <a:br>
              <a:rPr sz="4000"/>
            </a:b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(4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2560" y="1571760"/>
            <a:ext cx="9001080" cy="33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 из первобытных племён не оставило археологических памятников. Но известно, что в языке племени были слова «копьё», «корзина», «лодка», «весло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ании этих слов назовите занятия первобытных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4">
            <a:hlinkClick r:id="rId1" action="ppaction://hlinksldjump"/>
          </p:cNvPr>
          <p:cNvSpPr/>
          <p:nvPr/>
        </p:nvSpPr>
        <p:spPr>
          <a:xfrm>
            <a:off x="7993080" y="6281640"/>
            <a:ext cx="1150920" cy="576360"/>
          </a:xfrm>
          <a:custGeom>
            <a:avLst/>
            <a:gdLst>
              <a:gd name="textAreaLeft" fmla="*/ 37080 w 1150920"/>
              <a:gd name="textAreaRight" fmla="*/ 1113840 w 1150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3119" h="21600">
                <a:moveTo>
                  <a:pt x="0" y="0"/>
                </a:moveTo>
                <a:lnTo>
                  <a:pt x="43119" y="0"/>
                </a:lnTo>
                <a:lnTo>
                  <a:pt x="43119" y="21600"/>
                </a:lnTo>
                <a:lnTo>
                  <a:pt x="0" y="21600"/>
                </a:lnTo>
                <a:close/>
              </a:path>
              <a:path fill="lightenLess" w="43119" h="21600">
                <a:moveTo>
                  <a:pt x="0" y="0"/>
                </a:moveTo>
                <a:lnTo>
                  <a:pt x="43119" y="0"/>
                </a:lnTo>
                <a:lnTo>
                  <a:pt x="41719" y="1400"/>
                </a:lnTo>
                <a:lnTo>
                  <a:pt x="1400" y="1400"/>
                </a:lnTo>
                <a:close/>
              </a:path>
              <a:path fill="darken" w="43119" h="21600">
                <a:moveTo>
                  <a:pt x="43119" y="0"/>
                </a:moveTo>
                <a:lnTo>
                  <a:pt x="43119" y="21600"/>
                </a:lnTo>
                <a:lnTo>
                  <a:pt x="41719" y="20200"/>
                </a:lnTo>
                <a:lnTo>
                  <a:pt x="41719" y="1400"/>
                </a:lnTo>
                <a:close/>
              </a:path>
              <a:path fill="darkenLess" w="43119" h="21600">
                <a:moveTo>
                  <a:pt x="43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19" y="20200"/>
                </a:lnTo>
                <a:close/>
              </a:path>
              <a:path fill="lighten" w="43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19" h="21600">
                <a:moveTo>
                  <a:pt x="14553" y="10800"/>
                </a:moveTo>
                <a:lnTo>
                  <a:pt x="28566" y="3794"/>
                </a:lnTo>
                <a:lnTo>
                  <a:pt x="285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500040" y="4786200"/>
            <a:ext cx="864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Охота, собирательство, рыболовств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ИЗОБРЕТЕНИЯ И ОТКРЫТИЯ  </a:t>
            </a:r>
            <a:br>
              <a:rPr sz="4000"/>
            </a:b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(1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-360" y="1557000"/>
            <a:ext cx="89298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ак получилось каменное рубил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">
            <a:hlinkClick r:id="rId1" action="ppaction://hlinksldjump"/>
          </p:cNvPr>
          <p:cNvSpPr/>
          <p:nvPr/>
        </p:nvSpPr>
        <p:spPr>
          <a:xfrm>
            <a:off x="7993080" y="6281640"/>
            <a:ext cx="1150920" cy="576360"/>
          </a:xfrm>
          <a:custGeom>
            <a:avLst/>
            <a:gdLst>
              <a:gd name="textAreaLeft" fmla="*/ 37080 w 1150920"/>
              <a:gd name="textAreaRight" fmla="*/ 1113840 w 1150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3119" h="21600">
                <a:moveTo>
                  <a:pt x="0" y="0"/>
                </a:moveTo>
                <a:lnTo>
                  <a:pt x="43119" y="0"/>
                </a:lnTo>
                <a:lnTo>
                  <a:pt x="43119" y="21600"/>
                </a:lnTo>
                <a:lnTo>
                  <a:pt x="0" y="21600"/>
                </a:lnTo>
                <a:close/>
              </a:path>
              <a:path fill="lightenLess" w="43119" h="21600">
                <a:moveTo>
                  <a:pt x="0" y="0"/>
                </a:moveTo>
                <a:lnTo>
                  <a:pt x="43119" y="0"/>
                </a:lnTo>
                <a:lnTo>
                  <a:pt x="41719" y="1400"/>
                </a:lnTo>
                <a:lnTo>
                  <a:pt x="1400" y="1400"/>
                </a:lnTo>
                <a:close/>
              </a:path>
              <a:path fill="darken" w="43119" h="21600">
                <a:moveTo>
                  <a:pt x="43119" y="0"/>
                </a:moveTo>
                <a:lnTo>
                  <a:pt x="43119" y="21600"/>
                </a:lnTo>
                <a:lnTo>
                  <a:pt x="41719" y="20200"/>
                </a:lnTo>
                <a:lnTo>
                  <a:pt x="41719" y="1400"/>
                </a:lnTo>
                <a:close/>
              </a:path>
              <a:path fill="darkenLess" w="43119" h="21600">
                <a:moveTo>
                  <a:pt x="43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19" y="20200"/>
                </a:lnTo>
                <a:close/>
              </a:path>
              <a:path fill="lighten" w="43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19" h="21600">
                <a:moveTo>
                  <a:pt x="14553" y="10800"/>
                </a:moveTo>
                <a:lnTo>
                  <a:pt x="28566" y="3794"/>
                </a:lnTo>
                <a:lnTo>
                  <a:pt x="285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1500120" y="3571920"/>
            <a:ext cx="64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Ударами одного камня о друго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ИЗОБРЕТЕНИЯ И ОТКРЫТИЯ  </a:t>
            </a:r>
            <a:br>
              <a:rPr sz="4000"/>
            </a:b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 (20)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571760"/>
            <a:ext cx="8229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ло 6 тысяч лет назад люди заметили, что некоторые камни не раскалываются от удара. Попадая в огонь, они смягчаются и, застывая, приобретают новую фор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новый материал для изготовления орудий труда обнаружили люд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4">
            <a:hlinkClick r:id="rId1" action="ppaction://hlinksldjump"/>
          </p:cNvPr>
          <p:cNvSpPr/>
          <p:nvPr/>
        </p:nvSpPr>
        <p:spPr>
          <a:xfrm>
            <a:off x="7993080" y="6281640"/>
            <a:ext cx="1150920" cy="576360"/>
          </a:xfrm>
          <a:custGeom>
            <a:avLst/>
            <a:gdLst>
              <a:gd name="textAreaLeft" fmla="*/ 37080 w 1150920"/>
              <a:gd name="textAreaRight" fmla="*/ 1113840 w 1150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3119" h="21600">
                <a:moveTo>
                  <a:pt x="0" y="0"/>
                </a:moveTo>
                <a:lnTo>
                  <a:pt x="43119" y="0"/>
                </a:lnTo>
                <a:lnTo>
                  <a:pt x="43119" y="21600"/>
                </a:lnTo>
                <a:lnTo>
                  <a:pt x="0" y="21600"/>
                </a:lnTo>
                <a:close/>
              </a:path>
              <a:path fill="lightenLess" w="43119" h="21600">
                <a:moveTo>
                  <a:pt x="0" y="0"/>
                </a:moveTo>
                <a:lnTo>
                  <a:pt x="43119" y="0"/>
                </a:lnTo>
                <a:lnTo>
                  <a:pt x="41719" y="1400"/>
                </a:lnTo>
                <a:lnTo>
                  <a:pt x="1400" y="1400"/>
                </a:lnTo>
                <a:close/>
              </a:path>
              <a:path fill="darken" w="43119" h="21600">
                <a:moveTo>
                  <a:pt x="43119" y="0"/>
                </a:moveTo>
                <a:lnTo>
                  <a:pt x="43119" y="21600"/>
                </a:lnTo>
                <a:lnTo>
                  <a:pt x="41719" y="20200"/>
                </a:lnTo>
                <a:lnTo>
                  <a:pt x="41719" y="1400"/>
                </a:lnTo>
                <a:close/>
              </a:path>
              <a:path fill="darkenLess" w="43119" h="21600">
                <a:moveTo>
                  <a:pt x="43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19" y="20200"/>
                </a:lnTo>
                <a:close/>
              </a:path>
              <a:path fill="lighten" w="43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19" h="21600">
                <a:moveTo>
                  <a:pt x="14553" y="10800"/>
                </a:moveTo>
                <a:lnTo>
                  <a:pt x="28566" y="3794"/>
                </a:lnTo>
                <a:lnTo>
                  <a:pt x="285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285840" y="5214960"/>
            <a:ext cx="817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Медь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ИЗОБРЕТЕНИЯ И ОТКРЫТИЯ</a:t>
            </a:r>
            <a:br>
              <a:rPr sz="4000"/>
            </a:b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(30)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57120" y="1714320"/>
            <a:ext cx="842976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Что дал древним людям огон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4">
            <a:hlinkClick r:id="rId1" action="ppaction://hlinksldjump"/>
          </p:cNvPr>
          <p:cNvSpPr/>
          <p:nvPr/>
        </p:nvSpPr>
        <p:spPr>
          <a:xfrm>
            <a:off x="7993080" y="6281640"/>
            <a:ext cx="1150920" cy="576360"/>
          </a:xfrm>
          <a:custGeom>
            <a:avLst/>
            <a:gdLst>
              <a:gd name="textAreaLeft" fmla="*/ 37080 w 1150920"/>
              <a:gd name="textAreaRight" fmla="*/ 1113840 w 1150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3119" h="21600">
                <a:moveTo>
                  <a:pt x="0" y="0"/>
                </a:moveTo>
                <a:lnTo>
                  <a:pt x="43119" y="0"/>
                </a:lnTo>
                <a:lnTo>
                  <a:pt x="43119" y="21600"/>
                </a:lnTo>
                <a:lnTo>
                  <a:pt x="0" y="21600"/>
                </a:lnTo>
                <a:close/>
              </a:path>
              <a:path fill="lightenLess" w="43119" h="21600">
                <a:moveTo>
                  <a:pt x="0" y="0"/>
                </a:moveTo>
                <a:lnTo>
                  <a:pt x="43119" y="0"/>
                </a:lnTo>
                <a:lnTo>
                  <a:pt x="41719" y="1400"/>
                </a:lnTo>
                <a:lnTo>
                  <a:pt x="1400" y="1400"/>
                </a:lnTo>
                <a:close/>
              </a:path>
              <a:path fill="darken" w="43119" h="21600">
                <a:moveTo>
                  <a:pt x="43119" y="0"/>
                </a:moveTo>
                <a:lnTo>
                  <a:pt x="43119" y="21600"/>
                </a:lnTo>
                <a:lnTo>
                  <a:pt x="41719" y="20200"/>
                </a:lnTo>
                <a:lnTo>
                  <a:pt x="41719" y="1400"/>
                </a:lnTo>
                <a:close/>
              </a:path>
              <a:path fill="darkenLess" w="43119" h="21600">
                <a:moveTo>
                  <a:pt x="43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19" y="20200"/>
                </a:lnTo>
                <a:close/>
              </a:path>
              <a:path fill="lighten" w="43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19" h="21600">
                <a:moveTo>
                  <a:pt x="14553" y="10800"/>
                </a:moveTo>
                <a:lnTo>
                  <a:pt x="28566" y="3794"/>
                </a:lnTo>
                <a:lnTo>
                  <a:pt x="285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3143160" y="3500280"/>
            <a:ext cx="5143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Тепло, защиту от животных, горячую пищу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9" descr="http://st.free-lance.ru/users/sklavinica/upload/sm_f_4ae0310e7cf14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7120" y="3643200"/>
            <a:ext cx="2675160" cy="22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ИЗОБРЕТЕНИЯ И ОТКРЫТИЯ</a:t>
            </a:r>
            <a:br>
              <a:rPr sz="4000"/>
            </a:b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(40)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-360" y="1500120"/>
            <a:ext cx="89298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8229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хватке с крупными животными копьё было могучим оружием. Однако, в конце ледникового времени мамонты вымерли. Люди стали чаще охотиться на мелких и быстро бегающих животных. Необходимо было новое оруж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29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4">
            <a:hlinkClick r:id="rId1" action="ppaction://hlinksldjump"/>
          </p:cNvPr>
          <p:cNvSpPr/>
          <p:nvPr/>
        </p:nvSpPr>
        <p:spPr>
          <a:xfrm>
            <a:off x="7993080" y="6281640"/>
            <a:ext cx="1150920" cy="576360"/>
          </a:xfrm>
          <a:custGeom>
            <a:avLst/>
            <a:gdLst>
              <a:gd name="textAreaLeft" fmla="*/ 37080 w 1150920"/>
              <a:gd name="textAreaRight" fmla="*/ 1113840 w 1150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3119" h="21600">
                <a:moveTo>
                  <a:pt x="0" y="0"/>
                </a:moveTo>
                <a:lnTo>
                  <a:pt x="43119" y="0"/>
                </a:lnTo>
                <a:lnTo>
                  <a:pt x="43119" y="21600"/>
                </a:lnTo>
                <a:lnTo>
                  <a:pt x="0" y="21600"/>
                </a:lnTo>
                <a:close/>
              </a:path>
              <a:path fill="lightenLess" w="43119" h="21600">
                <a:moveTo>
                  <a:pt x="0" y="0"/>
                </a:moveTo>
                <a:lnTo>
                  <a:pt x="43119" y="0"/>
                </a:lnTo>
                <a:lnTo>
                  <a:pt x="41719" y="1400"/>
                </a:lnTo>
                <a:lnTo>
                  <a:pt x="1400" y="1400"/>
                </a:lnTo>
                <a:close/>
              </a:path>
              <a:path fill="darken" w="43119" h="21600">
                <a:moveTo>
                  <a:pt x="43119" y="0"/>
                </a:moveTo>
                <a:lnTo>
                  <a:pt x="43119" y="21600"/>
                </a:lnTo>
                <a:lnTo>
                  <a:pt x="41719" y="20200"/>
                </a:lnTo>
                <a:lnTo>
                  <a:pt x="41719" y="1400"/>
                </a:lnTo>
                <a:close/>
              </a:path>
              <a:path fill="darkenLess" w="43119" h="21600">
                <a:moveTo>
                  <a:pt x="43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19" y="20200"/>
                </a:lnTo>
                <a:close/>
              </a:path>
              <a:path fill="lighten" w="43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19" h="21600">
                <a:moveTo>
                  <a:pt x="14553" y="10800"/>
                </a:moveTo>
                <a:lnTo>
                  <a:pt x="28566" y="3794"/>
                </a:lnTo>
                <a:lnTo>
                  <a:pt x="285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357120" y="5214960"/>
            <a:ext cx="8496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Лук и стрел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ИСТОРИЯ ВЕЩЕЙ  </a:t>
            </a:r>
            <a:br>
              <a:rPr sz="4000"/>
            </a:b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(1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Что использовали первобытные люди для изготовления посуды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>
            <a:hlinkClick r:id="rId1" action="ppaction://hlinksldjump"/>
          </p:cNvPr>
          <p:cNvSpPr/>
          <p:nvPr/>
        </p:nvSpPr>
        <p:spPr>
          <a:xfrm>
            <a:off x="7993080" y="6281640"/>
            <a:ext cx="1150920" cy="576360"/>
          </a:xfrm>
          <a:custGeom>
            <a:avLst/>
            <a:gdLst>
              <a:gd name="textAreaLeft" fmla="*/ 37080 w 1150920"/>
              <a:gd name="textAreaRight" fmla="*/ 1113840 w 1150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3119" h="21600">
                <a:moveTo>
                  <a:pt x="0" y="0"/>
                </a:moveTo>
                <a:lnTo>
                  <a:pt x="43119" y="0"/>
                </a:lnTo>
                <a:lnTo>
                  <a:pt x="43119" y="21600"/>
                </a:lnTo>
                <a:lnTo>
                  <a:pt x="0" y="21600"/>
                </a:lnTo>
                <a:close/>
              </a:path>
              <a:path fill="lightenLess" w="43119" h="21600">
                <a:moveTo>
                  <a:pt x="0" y="0"/>
                </a:moveTo>
                <a:lnTo>
                  <a:pt x="43119" y="0"/>
                </a:lnTo>
                <a:lnTo>
                  <a:pt x="41719" y="1400"/>
                </a:lnTo>
                <a:lnTo>
                  <a:pt x="1400" y="1400"/>
                </a:lnTo>
                <a:close/>
              </a:path>
              <a:path fill="darken" w="43119" h="21600">
                <a:moveTo>
                  <a:pt x="43119" y="0"/>
                </a:moveTo>
                <a:lnTo>
                  <a:pt x="43119" y="21600"/>
                </a:lnTo>
                <a:lnTo>
                  <a:pt x="41719" y="20200"/>
                </a:lnTo>
                <a:lnTo>
                  <a:pt x="41719" y="1400"/>
                </a:lnTo>
                <a:close/>
              </a:path>
              <a:path fill="darkenLess" w="43119" h="21600">
                <a:moveTo>
                  <a:pt x="43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19" y="20200"/>
                </a:lnTo>
                <a:close/>
              </a:path>
              <a:path fill="lighten" w="43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19" h="21600">
                <a:moveTo>
                  <a:pt x="14553" y="10800"/>
                </a:moveTo>
                <a:lnTo>
                  <a:pt x="28566" y="3794"/>
                </a:lnTo>
                <a:lnTo>
                  <a:pt x="285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5429160" y="4286160"/>
            <a:ext cx="307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Глин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8" descr="P5010018"/>
          <p:cNvPicPr/>
          <p:nvPr/>
        </p:nvPicPr>
        <p:blipFill>
          <a:blip r:embed="rId2"/>
          <a:stretch/>
        </p:blipFill>
        <p:spPr>
          <a:xfrm>
            <a:off x="214200" y="3517920"/>
            <a:ext cx="4143600" cy="3108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ИСТОРИЯ ВЕЩЕЙ  </a:t>
            </a:r>
            <a:br>
              <a:rPr sz="4000"/>
            </a:b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(2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акое приспособление помогало изготавливать глиняную посуд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4">
            <a:hlinkClick r:id="rId1" action="ppaction://hlinksldjump"/>
          </p:cNvPr>
          <p:cNvSpPr/>
          <p:nvPr/>
        </p:nvSpPr>
        <p:spPr>
          <a:xfrm>
            <a:off x="7993080" y="6281640"/>
            <a:ext cx="1150920" cy="576360"/>
          </a:xfrm>
          <a:custGeom>
            <a:avLst/>
            <a:gdLst>
              <a:gd name="textAreaLeft" fmla="*/ 37080 w 1150920"/>
              <a:gd name="textAreaRight" fmla="*/ 1113840 w 1150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3119" h="21600">
                <a:moveTo>
                  <a:pt x="0" y="0"/>
                </a:moveTo>
                <a:lnTo>
                  <a:pt x="43119" y="0"/>
                </a:lnTo>
                <a:lnTo>
                  <a:pt x="43119" y="21600"/>
                </a:lnTo>
                <a:lnTo>
                  <a:pt x="0" y="21600"/>
                </a:lnTo>
                <a:close/>
              </a:path>
              <a:path fill="lightenLess" w="43119" h="21600">
                <a:moveTo>
                  <a:pt x="0" y="0"/>
                </a:moveTo>
                <a:lnTo>
                  <a:pt x="43119" y="0"/>
                </a:lnTo>
                <a:lnTo>
                  <a:pt x="41719" y="1400"/>
                </a:lnTo>
                <a:lnTo>
                  <a:pt x="1400" y="1400"/>
                </a:lnTo>
                <a:close/>
              </a:path>
              <a:path fill="darken" w="43119" h="21600">
                <a:moveTo>
                  <a:pt x="43119" y="0"/>
                </a:moveTo>
                <a:lnTo>
                  <a:pt x="43119" y="21600"/>
                </a:lnTo>
                <a:lnTo>
                  <a:pt x="41719" y="20200"/>
                </a:lnTo>
                <a:lnTo>
                  <a:pt x="41719" y="1400"/>
                </a:lnTo>
                <a:close/>
              </a:path>
              <a:path fill="darkenLess" w="43119" h="21600">
                <a:moveTo>
                  <a:pt x="43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19" y="20200"/>
                </a:lnTo>
                <a:close/>
              </a:path>
              <a:path fill="lighten" w="43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19" h="21600">
                <a:moveTo>
                  <a:pt x="14553" y="10800"/>
                </a:moveTo>
                <a:lnTo>
                  <a:pt x="28566" y="3794"/>
                </a:lnTo>
                <a:lnTo>
                  <a:pt x="285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2571840" y="4000680"/>
            <a:ext cx="414324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Гончарный кру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9" descr="Картинка 3 из 143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3286080"/>
            <a:ext cx="2257560" cy="33814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Картинка 44 из 2493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786720" y="3643200"/>
            <a:ext cx="2357280" cy="24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ИСТОРИЯ ВЕЩЕЙ  </a:t>
            </a:r>
            <a:br>
              <a:rPr sz="4000"/>
            </a:b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(3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Эту вещь археологи нашли во время раскопок. Она служила для вскапывания земли, что эт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4">
            <a:hlinkClick r:id="rId1" action="ppaction://hlinksldjump"/>
          </p:cNvPr>
          <p:cNvSpPr/>
          <p:nvPr/>
        </p:nvSpPr>
        <p:spPr>
          <a:xfrm>
            <a:off x="7993080" y="6281640"/>
            <a:ext cx="1150920" cy="576360"/>
          </a:xfrm>
          <a:custGeom>
            <a:avLst/>
            <a:gdLst>
              <a:gd name="textAreaLeft" fmla="*/ 37080 w 1150920"/>
              <a:gd name="textAreaRight" fmla="*/ 1113840 w 1150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3119" h="21600">
                <a:moveTo>
                  <a:pt x="0" y="0"/>
                </a:moveTo>
                <a:lnTo>
                  <a:pt x="43119" y="0"/>
                </a:lnTo>
                <a:lnTo>
                  <a:pt x="43119" y="21600"/>
                </a:lnTo>
                <a:lnTo>
                  <a:pt x="0" y="21600"/>
                </a:lnTo>
                <a:close/>
              </a:path>
              <a:path fill="lightenLess" w="43119" h="21600">
                <a:moveTo>
                  <a:pt x="0" y="0"/>
                </a:moveTo>
                <a:lnTo>
                  <a:pt x="43119" y="0"/>
                </a:lnTo>
                <a:lnTo>
                  <a:pt x="41719" y="1400"/>
                </a:lnTo>
                <a:lnTo>
                  <a:pt x="1400" y="1400"/>
                </a:lnTo>
                <a:close/>
              </a:path>
              <a:path fill="darken" w="43119" h="21600">
                <a:moveTo>
                  <a:pt x="43119" y="0"/>
                </a:moveTo>
                <a:lnTo>
                  <a:pt x="43119" y="21600"/>
                </a:lnTo>
                <a:lnTo>
                  <a:pt x="41719" y="20200"/>
                </a:lnTo>
                <a:lnTo>
                  <a:pt x="41719" y="1400"/>
                </a:lnTo>
                <a:close/>
              </a:path>
              <a:path fill="darkenLess" w="43119" h="21600">
                <a:moveTo>
                  <a:pt x="43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19" y="20200"/>
                </a:lnTo>
                <a:close/>
              </a:path>
              <a:path fill="lighten" w="43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19" h="21600">
                <a:moveTo>
                  <a:pt x="14553" y="10800"/>
                </a:moveTo>
                <a:lnTo>
                  <a:pt x="28566" y="3794"/>
                </a:lnTo>
                <a:lnTo>
                  <a:pt x="285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3571920" y="4714920"/>
            <a:ext cx="524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Мотыг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8" descr="Картинка 6 из 10380"/>
          <p:cNvPicPr/>
          <p:nvPr/>
        </p:nvPicPr>
        <p:blipFill>
          <a:blip r:embed="rId2"/>
          <a:stretch/>
        </p:blipFill>
        <p:spPr>
          <a:xfrm>
            <a:off x="1928880" y="4214880"/>
            <a:ext cx="164448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ИСТОРИЯ ВЕЩЕЙ  </a:t>
            </a:r>
            <a:br>
              <a:rPr sz="4000"/>
            </a:b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(4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57120" y="1412640"/>
            <a:ext cx="8786880" cy="32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74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еологи обнаружили стоянку первобытных людей. При раскопках был обнаружен скелет однорукого мужчины, погибшего под обрушившимся сводом пещеры. Изучение скелета показало, что в момент смерти ему было около 40 лет, а правую руку он потерял ещё в юношеском возрасте. Кто помог ему не умереть от голода и дожить до пожилого возра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4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4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7993080" y="6281640"/>
            <a:ext cx="1150920" cy="576360"/>
          </a:xfrm>
          <a:custGeom>
            <a:avLst/>
            <a:gdLst>
              <a:gd name="textAreaLeft" fmla="*/ 37080 w 1150920"/>
              <a:gd name="textAreaRight" fmla="*/ 1113840 w 1150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3119" h="21600">
                <a:moveTo>
                  <a:pt x="0" y="0"/>
                </a:moveTo>
                <a:lnTo>
                  <a:pt x="43119" y="0"/>
                </a:lnTo>
                <a:lnTo>
                  <a:pt x="43119" y="21600"/>
                </a:lnTo>
                <a:lnTo>
                  <a:pt x="0" y="21600"/>
                </a:lnTo>
                <a:close/>
              </a:path>
              <a:path fill="lightenLess" w="43119" h="21600">
                <a:moveTo>
                  <a:pt x="0" y="0"/>
                </a:moveTo>
                <a:lnTo>
                  <a:pt x="43119" y="0"/>
                </a:lnTo>
                <a:lnTo>
                  <a:pt x="41719" y="1400"/>
                </a:lnTo>
                <a:lnTo>
                  <a:pt x="1400" y="1400"/>
                </a:lnTo>
                <a:close/>
              </a:path>
              <a:path fill="darken" w="43119" h="21600">
                <a:moveTo>
                  <a:pt x="43119" y="0"/>
                </a:moveTo>
                <a:lnTo>
                  <a:pt x="43119" y="21600"/>
                </a:lnTo>
                <a:lnTo>
                  <a:pt x="41719" y="20200"/>
                </a:lnTo>
                <a:lnTo>
                  <a:pt x="41719" y="1400"/>
                </a:lnTo>
                <a:close/>
              </a:path>
              <a:path fill="darkenLess" w="43119" h="21600">
                <a:moveTo>
                  <a:pt x="43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19" y="20200"/>
                </a:lnTo>
                <a:close/>
              </a:path>
              <a:path fill="lighten" w="43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19" h="21600">
                <a:moveTo>
                  <a:pt x="14553" y="10800"/>
                </a:moveTo>
                <a:lnTo>
                  <a:pt x="28566" y="3794"/>
                </a:lnTo>
                <a:lnTo>
                  <a:pt x="285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642960" y="5572080"/>
            <a:ext cx="707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00"/>
                </a:solidFill>
                <a:latin typeface="Arial"/>
              </a:rPr>
              <a:t>Родовая общи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WordArt 4"/>
          <p:cNvSpPr txBox="1"/>
          <p:nvPr/>
        </p:nvSpPr>
        <p:spPr>
          <a:xfrm>
            <a:off x="1403280" y="1916280"/>
            <a:ext cx="7500960" cy="20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08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"/>
              </a:rPr>
              <a:t>"Исторический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Arial"/>
              </a:rPr>
              <a:t> </a:t>
            </a: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Arial"/>
              </a:rPr>
              <a:t>поединок"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Arial"/>
              <a:ea typeface="Arial"/>
            </a:endParaRPr>
          </a:p>
        </p:txBody>
      </p:sp>
      <p:pic>
        <p:nvPicPr>
          <p:cNvPr id="43" name="20th_century_FOX-Фанфары.mp3" descr=""/>
          <p:cNvPicPr/>
          <p:nvPr/>
        </p:nvPicPr>
        <p:blipFill>
          <a:blip r:embed="rId7"/>
          <a:stretch/>
        </p:blipFill>
        <p:spPr>
          <a:xfrm>
            <a:off x="500040" y="61437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5"/>
          <p:cNvSpPr/>
          <p:nvPr/>
        </p:nvSpPr>
        <p:spPr>
          <a:xfrm>
            <a:off x="4788000" y="189000"/>
            <a:ext cx="414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тория древнего мира. Жизнь первобытных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4" descr=""/>
          <p:cNvPicPr/>
          <p:nvPr/>
        </p:nvPicPr>
        <p:blipFill>
          <a:blip r:embed="rId8"/>
          <a:stretch/>
        </p:blipFill>
        <p:spPr>
          <a:xfrm>
            <a:off x="0" y="0"/>
            <a:ext cx="241308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9"/>
          <a:stretch/>
        </p:blipFill>
        <p:spPr>
          <a:xfrm>
            <a:off x="7140600" y="4543560"/>
            <a:ext cx="200340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РЕЛИГИЯ  </a:t>
            </a:r>
            <a:br>
              <a:rPr sz="4000"/>
            </a:b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(1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ачем древние люди рисовали на стенах пещер пораженных копьем животных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7993080" y="6281640"/>
            <a:ext cx="1150920" cy="576360"/>
          </a:xfrm>
          <a:custGeom>
            <a:avLst/>
            <a:gdLst>
              <a:gd name="textAreaLeft" fmla="*/ 37080 w 1150920"/>
              <a:gd name="textAreaRight" fmla="*/ 1113840 w 1150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3119" h="21600">
                <a:moveTo>
                  <a:pt x="0" y="0"/>
                </a:moveTo>
                <a:lnTo>
                  <a:pt x="43119" y="0"/>
                </a:lnTo>
                <a:lnTo>
                  <a:pt x="43119" y="21600"/>
                </a:lnTo>
                <a:lnTo>
                  <a:pt x="0" y="21600"/>
                </a:lnTo>
                <a:close/>
              </a:path>
              <a:path fill="lightenLess" w="43119" h="21600">
                <a:moveTo>
                  <a:pt x="0" y="0"/>
                </a:moveTo>
                <a:lnTo>
                  <a:pt x="43119" y="0"/>
                </a:lnTo>
                <a:lnTo>
                  <a:pt x="41719" y="1400"/>
                </a:lnTo>
                <a:lnTo>
                  <a:pt x="1400" y="1400"/>
                </a:lnTo>
                <a:close/>
              </a:path>
              <a:path fill="darken" w="43119" h="21600">
                <a:moveTo>
                  <a:pt x="43119" y="0"/>
                </a:moveTo>
                <a:lnTo>
                  <a:pt x="43119" y="21600"/>
                </a:lnTo>
                <a:lnTo>
                  <a:pt x="41719" y="20200"/>
                </a:lnTo>
                <a:lnTo>
                  <a:pt x="41719" y="1400"/>
                </a:lnTo>
                <a:close/>
              </a:path>
              <a:path fill="darkenLess" w="43119" h="21600">
                <a:moveTo>
                  <a:pt x="43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19" y="20200"/>
                </a:lnTo>
                <a:close/>
              </a:path>
              <a:path fill="lighten" w="43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19" h="21600">
                <a:moveTo>
                  <a:pt x="14553" y="10800"/>
                </a:moveTo>
                <a:lnTo>
                  <a:pt x="28566" y="3794"/>
                </a:lnTo>
                <a:lnTo>
                  <a:pt x="285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3286080" y="3571920"/>
            <a:ext cx="5535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Они считали, что такой рисунок поможет добиться успех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8" descr="Картинка 10 из 4519"/>
          <p:cNvPicPr/>
          <p:nvPr/>
        </p:nvPicPr>
        <p:blipFill>
          <a:blip r:embed="rId1"/>
          <a:stretch/>
        </p:blipFill>
        <p:spPr>
          <a:xfrm>
            <a:off x="0" y="4000680"/>
            <a:ext cx="32670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РЕЛИГИЯ  </a:t>
            </a:r>
            <a:br>
              <a:rPr sz="4000"/>
            </a:b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(2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ера людей в колдовство, оборотней, жизнь после смерти называется…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7993080" y="6281640"/>
            <a:ext cx="1150920" cy="576360"/>
          </a:xfrm>
          <a:custGeom>
            <a:avLst/>
            <a:gdLst>
              <a:gd name="textAreaLeft" fmla="*/ 37080 w 1150920"/>
              <a:gd name="textAreaRight" fmla="*/ 1113840 w 1150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3119" h="21600">
                <a:moveTo>
                  <a:pt x="0" y="0"/>
                </a:moveTo>
                <a:lnTo>
                  <a:pt x="43119" y="0"/>
                </a:lnTo>
                <a:lnTo>
                  <a:pt x="43119" y="21600"/>
                </a:lnTo>
                <a:lnTo>
                  <a:pt x="0" y="21600"/>
                </a:lnTo>
                <a:close/>
              </a:path>
              <a:path fill="lightenLess" w="43119" h="21600">
                <a:moveTo>
                  <a:pt x="0" y="0"/>
                </a:moveTo>
                <a:lnTo>
                  <a:pt x="43119" y="0"/>
                </a:lnTo>
                <a:lnTo>
                  <a:pt x="41719" y="1400"/>
                </a:lnTo>
                <a:lnTo>
                  <a:pt x="1400" y="1400"/>
                </a:lnTo>
                <a:close/>
              </a:path>
              <a:path fill="darken" w="43119" h="21600">
                <a:moveTo>
                  <a:pt x="43119" y="0"/>
                </a:moveTo>
                <a:lnTo>
                  <a:pt x="43119" y="21600"/>
                </a:lnTo>
                <a:lnTo>
                  <a:pt x="41719" y="20200"/>
                </a:lnTo>
                <a:lnTo>
                  <a:pt x="41719" y="1400"/>
                </a:lnTo>
                <a:close/>
              </a:path>
              <a:path fill="darkenLess" w="43119" h="21600">
                <a:moveTo>
                  <a:pt x="43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19" y="20200"/>
                </a:lnTo>
                <a:close/>
              </a:path>
              <a:path fill="lighten" w="43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19" h="21600">
                <a:moveTo>
                  <a:pt x="14553" y="10800"/>
                </a:moveTo>
                <a:lnTo>
                  <a:pt x="28566" y="3794"/>
                </a:lnTo>
                <a:lnTo>
                  <a:pt x="285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0" y="41432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Религ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РЕЛИГИЯ  </a:t>
            </a:r>
            <a:br>
              <a:rPr sz="4000"/>
            </a:b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(3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2296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то изображен и для чего он служил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4"/>
          <p:cNvSpPr/>
          <p:nvPr/>
        </p:nvSpPr>
        <p:spPr>
          <a:xfrm>
            <a:off x="7993080" y="6281640"/>
            <a:ext cx="1150920" cy="576360"/>
          </a:xfrm>
          <a:custGeom>
            <a:avLst/>
            <a:gdLst>
              <a:gd name="textAreaLeft" fmla="*/ 37080 w 1150920"/>
              <a:gd name="textAreaRight" fmla="*/ 1113840 w 1150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3119" h="21600">
                <a:moveTo>
                  <a:pt x="0" y="0"/>
                </a:moveTo>
                <a:lnTo>
                  <a:pt x="43119" y="0"/>
                </a:lnTo>
                <a:lnTo>
                  <a:pt x="43119" y="21600"/>
                </a:lnTo>
                <a:lnTo>
                  <a:pt x="0" y="21600"/>
                </a:lnTo>
                <a:close/>
              </a:path>
              <a:path fill="lightenLess" w="43119" h="21600">
                <a:moveTo>
                  <a:pt x="0" y="0"/>
                </a:moveTo>
                <a:lnTo>
                  <a:pt x="43119" y="0"/>
                </a:lnTo>
                <a:lnTo>
                  <a:pt x="41719" y="1400"/>
                </a:lnTo>
                <a:lnTo>
                  <a:pt x="1400" y="1400"/>
                </a:lnTo>
                <a:close/>
              </a:path>
              <a:path fill="darken" w="43119" h="21600">
                <a:moveTo>
                  <a:pt x="43119" y="0"/>
                </a:moveTo>
                <a:lnTo>
                  <a:pt x="43119" y="21600"/>
                </a:lnTo>
                <a:lnTo>
                  <a:pt x="41719" y="20200"/>
                </a:lnTo>
                <a:lnTo>
                  <a:pt x="41719" y="1400"/>
                </a:lnTo>
                <a:close/>
              </a:path>
              <a:path fill="darkenLess" w="43119" h="21600">
                <a:moveTo>
                  <a:pt x="43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19" y="20200"/>
                </a:lnTo>
                <a:close/>
              </a:path>
              <a:path fill="lighten" w="43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19" h="21600">
                <a:moveTo>
                  <a:pt x="14553" y="10800"/>
                </a:moveTo>
                <a:lnTo>
                  <a:pt x="28566" y="3794"/>
                </a:lnTo>
                <a:lnTo>
                  <a:pt x="285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2357280" y="3429000"/>
            <a:ext cx="4714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Идол, для поклонения и жертвоприноше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9" descr="Картинка 28 из 52529"/>
          <p:cNvPicPr/>
          <p:nvPr/>
        </p:nvPicPr>
        <p:blipFill>
          <a:blip r:embed="rId1"/>
          <a:stretch/>
        </p:blipFill>
        <p:spPr>
          <a:xfrm>
            <a:off x="357120" y="2571840"/>
            <a:ext cx="2009880" cy="38098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1" descr="Картинка 8 из 52529"/>
          <p:cNvPicPr/>
          <p:nvPr/>
        </p:nvPicPr>
        <p:blipFill>
          <a:blip r:embed="rId2"/>
          <a:stretch/>
        </p:blipFill>
        <p:spPr>
          <a:xfrm>
            <a:off x="7089840" y="2286000"/>
            <a:ext cx="2054160" cy="27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РЕЛИГИЯ  </a:t>
            </a:r>
            <a:br>
              <a:rPr sz="4000"/>
            </a:b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(4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7993080" y="6281640"/>
            <a:ext cx="1150920" cy="576360"/>
          </a:xfrm>
          <a:custGeom>
            <a:avLst/>
            <a:gdLst>
              <a:gd name="textAreaLeft" fmla="*/ 37080 w 1150920"/>
              <a:gd name="textAreaRight" fmla="*/ 1113840 w 1150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3119" h="21600">
                <a:moveTo>
                  <a:pt x="0" y="0"/>
                </a:moveTo>
                <a:lnTo>
                  <a:pt x="43119" y="0"/>
                </a:lnTo>
                <a:lnTo>
                  <a:pt x="43119" y="21600"/>
                </a:lnTo>
                <a:lnTo>
                  <a:pt x="0" y="21600"/>
                </a:lnTo>
                <a:close/>
              </a:path>
              <a:path fill="lightenLess" w="43119" h="21600">
                <a:moveTo>
                  <a:pt x="0" y="0"/>
                </a:moveTo>
                <a:lnTo>
                  <a:pt x="43119" y="0"/>
                </a:lnTo>
                <a:lnTo>
                  <a:pt x="41719" y="1400"/>
                </a:lnTo>
                <a:lnTo>
                  <a:pt x="1400" y="1400"/>
                </a:lnTo>
                <a:close/>
              </a:path>
              <a:path fill="darken" w="43119" h="21600">
                <a:moveTo>
                  <a:pt x="43119" y="0"/>
                </a:moveTo>
                <a:lnTo>
                  <a:pt x="43119" y="21600"/>
                </a:lnTo>
                <a:lnTo>
                  <a:pt x="41719" y="20200"/>
                </a:lnTo>
                <a:lnTo>
                  <a:pt x="41719" y="1400"/>
                </a:lnTo>
                <a:close/>
              </a:path>
              <a:path fill="darkenLess" w="43119" h="21600">
                <a:moveTo>
                  <a:pt x="43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19" y="20200"/>
                </a:lnTo>
                <a:close/>
              </a:path>
              <a:path fill="lighten" w="43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19" h="21600">
                <a:moveTo>
                  <a:pt x="14553" y="10800"/>
                </a:moveTo>
                <a:lnTo>
                  <a:pt x="28566" y="3794"/>
                </a:lnTo>
                <a:lnTo>
                  <a:pt x="285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468360" y="1700280"/>
            <a:ext cx="8461440" cy="20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имволическое изображение бога- идол. Люди ему не только поклонялись, но и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285840" y="4357800"/>
            <a:ext cx="7742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Секли его прутьями, если были неурожай или гибель скот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4"/>
          <p:cNvSpPr txBox="1"/>
          <p:nvPr/>
        </p:nvSpPr>
        <p:spPr>
          <a:xfrm>
            <a:off x="826920" y="142920"/>
            <a:ext cx="770580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66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Исторический поединок"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48" name="AutoShape 5"/>
          <p:cNvSpPr/>
          <p:nvPr/>
        </p:nvSpPr>
        <p:spPr>
          <a:xfrm rot="10800000">
            <a:off x="323640" y="980640"/>
            <a:ext cx="2447640" cy="719280"/>
          </a:xfrm>
          <a:prstGeom prst="flowChartDisplay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н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02"/>
          <p:cNvSpPr/>
          <p:nvPr/>
        </p:nvSpPr>
        <p:spPr>
          <a:xfrm rot="10800000">
            <a:off x="250560" y="1989000"/>
            <a:ext cx="2592360" cy="935280"/>
          </a:xfrm>
          <a:prstGeom prst="flowChartDisplay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нят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ревн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ю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03"/>
          <p:cNvSpPr/>
          <p:nvPr/>
        </p:nvSpPr>
        <p:spPr>
          <a:xfrm rot="10800000">
            <a:off x="250920" y="3141720"/>
            <a:ext cx="2665440" cy="1079280"/>
          </a:xfrm>
          <a:prstGeom prst="flowChartDisplay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зобретения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ткры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05"/>
          <p:cNvSpPr/>
          <p:nvPr/>
        </p:nvSpPr>
        <p:spPr>
          <a:xfrm rot="10800000">
            <a:off x="250920" y="4436640"/>
            <a:ext cx="2665440" cy="863640"/>
          </a:xfrm>
          <a:prstGeom prst="flowChartDisplay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сто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ещ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07"/>
          <p:cNvSpPr/>
          <p:nvPr/>
        </p:nvSpPr>
        <p:spPr>
          <a:xfrm rot="10800000">
            <a:off x="250920" y="5660640"/>
            <a:ext cx="2665440" cy="792360"/>
          </a:xfrm>
          <a:prstGeom prst="flowChartDisplay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ели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55">
            <a:hlinkClick r:id="rId3" action="ppaction://hlinksldjump"/>
          </p:cNvPr>
          <p:cNvSpPr/>
          <p:nvPr/>
        </p:nvSpPr>
        <p:spPr>
          <a:xfrm>
            <a:off x="3132000" y="2060640"/>
            <a:ext cx="1008360" cy="86508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doni MT Black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56">
            <a:hlinkClick r:id="rId4" action="ppaction://hlinksldjump"/>
          </p:cNvPr>
          <p:cNvSpPr/>
          <p:nvPr/>
        </p:nvSpPr>
        <p:spPr>
          <a:xfrm>
            <a:off x="3132000" y="3284640"/>
            <a:ext cx="1008360" cy="86508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doni MT Black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58">
            <a:hlinkClick r:id="rId5" action="ppaction://hlinksldjump"/>
          </p:cNvPr>
          <p:cNvSpPr/>
          <p:nvPr/>
        </p:nvSpPr>
        <p:spPr>
          <a:xfrm>
            <a:off x="3132000" y="4437000"/>
            <a:ext cx="1008360" cy="86364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doni MT Black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60">
            <a:hlinkClick r:id="rId6" action="ppaction://hlinksldjump"/>
          </p:cNvPr>
          <p:cNvSpPr/>
          <p:nvPr/>
        </p:nvSpPr>
        <p:spPr>
          <a:xfrm>
            <a:off x="3132000" y="5516640"/>
            <a:ext cx="1079640" cy="93816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doni MT Black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61">
            <a:hlinkClick r:id="rId7" action="ppaction://hlinksldjump"/>
          </p:cNvPr>
          <p:cNvSpPr/>
          <p:nvPr/>
        </p:nvSpPr>
        <p:spPr>
          <a:xfrm>
            <a:off x="3132000" y="981000"/>
            <a:ext cx="1008360" cy="79236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doni MT Black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62">
            <a:hlinkClick r:id="rId8" action="ppaction://hlinksldjump"/>
          </p:cNvPr>
          <p:cNvSpPr/>
          <p:nvPr/>
        </p:nvSpPr>
        <p:spPr>
          <a:xfrm>
            <a:off x="4500720" y="2060640"/>
            <a:ext cx="1079280" cy="865080"/>
          </a:xfrm>
          <a:prstGeom prst="bevel">
            <a:avLst>
              <a:gd name="adj" fmla="val 125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doni MT Black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63">
            <a:hlinkClick r:id="rId9" action="ppaction://hlinksldjump"/>
          </p:cNvPr>
          <p:cNvSpPr/>
          <p:nvPr/>
        </p:nvSpPr>
        <p:spPr>
          <a:xfrm>
            <a:off x="4500720" y="3284640"/>
            <a:ext cx="1079280" cy="865080"/>
          </a:xfrm>
          <a:prstGeom prst="bevel">
            <a:avLst>
              <a:gd name="adj" fmla="val 125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doni MT Black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65">
            <a:hlinkClick r:id="rId10" action="ppaction://hlinksldjump"/>
          </p:cNvPr>
          <p:cNvSpPr/>
          <p:nvPr/>
        </p:nvSpPr>
        <p:spPr>
          <a:xfrm>
            <a:off x="4500720" y="4437000"/>
            <a:ext cx="1079280" cy="863640"/>
          </a:xfrm>
          <a:prstGeom prst="bevel">
            <a:avLst>
              <a:gd name="adj" fmla="val 125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doni MT Black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68">
            <a:hlinkClick r:id="rId11" action="ppaction://hlinksldjump"/>
          </p:cNvPr>
          <p:cNvSpPr/>
          <p:nvPr/>
        </p:nvSpPr>
        <p:spPr>
          <a:xfrm>
            <a:off x="4500720" y="981000"/>
            <a:ext cx="1079280" cy="792360"/>
          </a:xfrm>
          <a:prstGeom prst="bevel">
            <a:avLst>
              <a:gd name="adj" fmla="val 125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doni MT Black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70">
            <a:hlinkClick r:id="rId12" action="ppaction://hlinksldjump"/>
          </p:cNvPr>
          <p:cNvSpPr/>
          <p:nvPr/>
        </p:nvSpPr>
        <p:spPr>
          <a:xfrm>
            <a:off x="6012000" y="3284640"/>
            <a:ext cx="1081080" cy="86508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doni MT Black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72">
            <a:hlinkClick r:id="rId13" action="ppaction://hlinksldjump"/>
          </p:cNvPr>
          <p:cNvSpPr/>
          <p:nvPr/>
        </p:nvSpPr>
        <p:spPr>
          <a:xfrm>
            <a:off x="6012000" y="4437000"/>
            <a:ext cx="1081080" cy="86508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doni MT Black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74">
            <a:hlinkClick r:id="rId14" action="ppaction://hlinksldjump"/>
          </p:cNvPr>
          <p:cNvSpPr/>
          <p:nvPr/>
        </p:nvSpPr>
        <p:spPr>
          <a:xfrm>
            <a:off x="4500720" y="5516640"/>
            <a:ext cx="1079280" cy="865080"/>
          </a:xfrm>
          <a:prstGeom prst="bevel">
            <a:avLst>
              <a:gd name="adj" fmla="val 125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doni MT Black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75">
            <a:hlinkClick r:id="rId15" action="ppaction://hlinksldjump"/>
          </p:cNvPr>
          <p:cNvSpPr/>
          <p:nvPr/>
        </p:nvSpPr>
        <p:spPr>
          <a:xfrm>
            <a:off x="6012000" y="981000"/>
            <a:ext cx="1081080" cy="79236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doni MT Black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76">
            <a:hlinkClick r:id="rId16" action="ppaction://hlinksldjump"/>
          </p:cNvPr>
          <p:cNvSpPr/>
          <p:nvPr/>
        </p:nvSpPr>
        <p:spPr>
          <a:xfrm>
            <a:off x="6012000" y="2060640"/>
            <a:ext cx="1081080" cy="86508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doni MT Black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81">
            <a:hlinkClick r:id="rId17" action="ppaction://hlinksldjump"/>
          </p:cNvPr>
          <p:cNvSpPr/>
          <p:nvPr/>
        </p:nvSpPr>
        <p:spPr>
          <a:xfrm>
            <a:off x="6012000" y="5516640"/>
            <a:ext cx="1079280" cy="93672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doni MT Black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82">
            <a:hlinkClick r:id="rId18" action="ppaction://hlinksldjump"/>
          </p:cNvPr>
          <p:cNvSpPr/>
          <p:nvPr/>
        </p:nvSpPr>
        <p:spPr>
          <a:xfrm>
            <a:off x="7380360" y="981000"/>
            <a:ext cx="1008000" cy="79236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doni MT Black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83">
            <a:hlinkClick r:id="rId19" action="ppaction://hlinksldjump"/>
          </p:cNvPr>
          <p:cNvSpPr/>
          <p:nvPr/>
        </p:nvSpPr>
        <p:spPr>
          <a:xfrm>
            <a:off x="7380360" y="3284640"/>
            <a:ext cx="1079280" cy="86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doni MT Black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85">
            <a:hlinkClick r:id="rId20" action="ppaction://hlinksldjump"/>
          </p:cNvPr>
          <p:cNvSpPr/>
          <p:nvPr/>
        </p:nvSpPr>
        <p:spPr>
          <a:xfrm>
            <a:off x="7380360" y="4437000"/>
            <a:ext cx="1079280" cy="86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doni MT Black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87">
            <a:hlinkClick r:id="rId21" action="ppaction://hlinksldjump"/>
          </p:cNvPr>
          <p:cNvSpPr/>
          <p:nvPr/>
        </p:nvSpPr>
        <p:spPr>
          <a:xfrm>
            <a:off x="7380360" y="5516640"/>
            <a:ext cx="1079280" cy="936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doni MT Black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88">
            <a:hlinkClick r:id="rId22" action="ppaction://hlinksldjump"/>
          </p:cNvPr>
          <p:cNvSpPr/>
          <p:nvPr/>
        </p:nvSpPr>
        <p:spPr>
          <a:xfrm>
            <a:off x="7380360" y="2060640"/>
            <a:ext cx="1079280" cy="86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doni MT Black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56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ЛЕНТА ВРЕМЕНИ  </a:t>
            </a:r>
            <a:br>
              <a:rPr sz="4000"/>
            </a:b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(1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000" y="2204640"/>
            <a:ext cx="57466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огда появилис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ервые люд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5">
            <a:hlinkClick r:id="rId1" action="ppaction://hlinksldjump"/>
          </p:cNvPr>
          <p:cNvSpPr/>
          <p:nvPr/>
        </p:nvSpPr>
        <p:spPr>
          <a:xfrm>
            <a:off x="7993080" y="6281640"/>
            <a:ext cx="1150920" cy="576360"/>
          </a:xfrm>
          <a:custGeom>
            <a:avLst/>
            <a:gdLst>
              <a:gd name="textAreaLeft" fmla="*/ 37080 w 1150920"/>
              <a:gd name="textAreaRight" fmla="*/ 1113840 w 1150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3119" h="21600">
                <a:moveTo>
                  <a:pt x="0" y="0"/>
                </a:moveTo>
                <a:lnTo>
                  <a:pt x="43119" y="0"/>
                </a:lnTo>
                <a:lnTo>
                  <a:pt x="43119" y="21600"/>
                </a:lnTo>
                <a:lnTo>
                  <a:pt x="0" y="21600"/>
                </a:lnTo>
                <a:close/>
              </a:path>
              <a:path fill="lightenLess" w="43119" h="21600">
                <a:moveTo>
                  <a:pt x="0" y="0"/>
                </a:moveTo>
                <a:lnTo>
                  <a:pt x="43119" y="0"/>
                </a:lnTo>
                <a:lnTo>
                  <a:pt x="41719" y="1400"/>
                </a:lnTo>
                <a:lnTo>
                  <a:pt x="1400" y="1400"/>
                </a:lnTo>
                <a:close/>
              </a:path>
              <a:path fill="darken" w="43119" h="21600">
                <a:moveTo>
                  <a:pt x="43119" y="0"/>
                </a:moveTo>
                <a:lnTo>
                  <a:pt x="43119" y="21600"/>
                </a:lnTo>
                <a:lnTo>
                  <a:pt x="41719" y="20200"/>
                </a:lnTo>
                <a:lnTo>
                  <a:pt x="41719" y="1400"/>
                </a:lnTo>
                <a:close/>
              </a:path>
              <a:path fill="darkenLess" w="43119" h="21600">
                <a:moveTo>
                  <a:pt x="43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19" y="20200"/>
                </a:lnTo>
                <a:close/>
              </a:path>
              <a:path fill="lighten" w="43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19" h="21600">
                <a:moveTo>
                  <a:pt x="14553" y="10800"/>
                </a:moveTo>
                <a:lnTo>
                  <a:pt x="28566" y="3794"/>
                </a:lnTo>
                <a:lnTo>
                  <a:pt x="285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857160" y="4365720"/>
            <a:ext cx="6500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00"/>
                </a:solidFill>
                <a:latin typeface="Arial"/>
              </a:rPr>
              <a:t>2 миллиона лет наза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Xthtg gthdj, xtkf lkz ghtptynfwbq"/>
          <p:cNvPicPr/>
          <p:nvPr/>
        </p:nvPicPr>
        <p:blipFill>
          <a:blip r:embed="rId2"/>
          <a:stretch/>
        </p:blipFill>
        <p:spPr>
          <a:xfrm>
            <a:off x="6286680" y="1714680"/>
            <a:ext cx="2286000" cy="26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ЛЕНТА ВРЕМЕНИ  </a:t>
            </a:r>
            <a:br>
              <a:rPr sz="4000"/>
            </a:b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(2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ак называется отрезо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ремени в 10 веков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5">
            <a:hlinkClick r:id="rId1" action="ppaction://hlinksldjump"/>
          </p:cNvPr>
          <p:cNvSpPr/>
          <p:nvPr/>
        </p:nvSpPr>
        <p:spPr>
          <a:xfrm>
            <a:off x="7993080" y="6281640"/>
            <a:ext cx="1150920" cy="576360"/>
          </a:xfrm>
          <a:custGeom>
            <a:avLst/>
            <a:gdLst>
              <a:gd name="textAreaLeft" fmla="*/ 37080 w 1150920"/>
              <a:gd name="textAreaRight" fmla="*/ 1113840 w 1150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3119" h="21600">
                <a:moveTo>
                  <a:pt x="0" y="0"/>
                </a:moveTo>
                <a:lnTo>
                  <a:pt x="43119" y="0"/>
                </a:lnTo>
                <a:lnTo>
                  <a:pt x="43119" y="21600"/>
                </a:lnTo>
                <a:lnTo>
                  <a:pt x="0" y="21600"/>
                </a:lnTo>
                <a:close/>
              </a:path>
              <a:path fill="lightenLess" w="43119" h="21600">
                <a:moveTo>
                  <a:pt x="0" y="0"/>
                </a:moveTo>
                <a:lnTo>
                  <a:pt x="43119" y="0"/>
                </a:lnTo>
                <a:lnTo>
                  <a:pt x="41719" y="1400"/>
                </a:lnTo>
                <a:lnTo>
                  <a:pt x="1400" y="1400"/>
                </a:lnTo>
                <a:close/>
              </a:path>
              <a:path fill="darken" w="43119" h="21600">
                <a:moveTo>
                  <a:pt x="43119" y="0"/>
                </a:moveTo>
                <a:lnTo>
                  <a:pt x="43119" y="21600"/>
                </a:lnTo>
                <a:lnTo>
                  <a:pt x="41719" y="20200"/>
                </a:lnTo>
                <a:lnTo>
                  <a:pt x="41719" y="1400"/>
                </a:lnTo>
                <a:close/>
              </a:path>
              <a:path fill="darkenLess" w="43119" h="21600">
                <a:moveTo>
                  <a:pt x="43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19" y="20200"/>
                </a:lnTo>
                <a:close/>
              </a:path>
              <a:path fill="lighten" w="43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19" h="21600">
                <a:moveTo>
                  <a:pt x="14553" y="10800"/>
                </a:moveTo>
                <a:lnTo>
                  <a:pt x="28566" y="3794"/>
                </a:lnTo>
                <a:lnTo>
                  <a:pt x="285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2195640" y="4365720"/>
            <a:ext cx="49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00"/>
                </a:solidFill>
                <a:latin typeface="Arial"/>
              </a:rPr>
              <a:t>Тысячелет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ЛЕНТА ВРЕМЕНИ  </a:t>
            </a:r>
            <a:br>
              <a:rPr sz="4000"/>
            </a:b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(30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357720" y="1844640"/>
            <a:ext cx="56433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колько лет назад появились земледелие и скотоводств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">
            <a:hlinkClick r:id="rId1" action="ppaction://hlinksldjump"/>
          </p:cNvPr>
          <p:cNvSpPr/>
          <p:nvPr/>
        </p:nvSpPr>
        <p:spPr>
          <a:xfrm>
            <a:off x="7993080" y="6281640"/>
            <a:ext cx="1150920" cy="576360"/>
          </a:xfrm>
          <a:custGeom>
            <a:avLst/>
            <a:gdLst>
              <a:gd name="textAreaLeft" fmla="*/ 37080 w 1150920"/>
              <a:gd name="textAreaRight" fmla="*/ 1113840 w 1150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3119" h="21600">
                <a:moveTo>
                  <a:pt x="0" y="0"/>
                </a:moveTo>
                <a:lnTo>
                  <a:pt x="43119" y="0"/>
                </a:lnTo>
                <a:lnTo>
                  <a:pt x="43119" y="21600"/>
                </a:lnTo>
                <a:lnTo>
                  <a:pt x="0" y="21600"/>
                </a:lnTo>
                <a:close/>
              </a:path>
              <a:path fill="lightenLess" w="43119" h="21600">
                <a:moveTo>
                  <a:pt x="0" y="0"/>
                </a:moveTo>
                <a:lnTo>
                  <a:pt x="43119" y="0"/>
                </a:lnTo>
                <a:lnTo>
                  <a:pt x="41719" y="1400"/>
                </a:lnTo>
                <a:lnTo>
                  <a:pt x="1400" y="1400"/>
                </a:lnTo>
                <a:close/>
              </a:path>
              <a:path fill="darken" w="43119" h="21600">
                <a:moveTo>
                  <a:pt x="43119" y="0"/>
                </a:moveTo>
                <a:lnTo>
                  <a:pt x="43119" y="21600"/>
                </a:lnTo>
                <a:lnTo>
                  <a:pt x="41719" y="20200"/>
                </a:lnTo>
                <a:lnTo>
                  <a:pt x="41719" y="1400"/>
                </a:lnTo>
                <a:close/>
              </a:path>
              <a:path fill="darkenLess" w="43119" h="21600">
                <a:moveTo>
                  <a:pt x="43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19" y="20200"/>
                </a:lnTo>
                <a:close/>
              </a:path>
              <a:path fill="lighten" w="43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19" h="21600">
                <a:moveTo>
                  <a:pt x="14553" y="10800"/>
                </a:moveTo>
                <a:lnTo>
                  <a:pt x="28566" y="3794"/>
                </a:lnTo>
                <a:lnTo>
                  <a:pt x="285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4000680" y="4292640"/>
            <a:ext cx="4819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00"/>
                </a:solidFill>
                <a:latin typeface="Arial"/>
              </a:rPr>
              <a:t>10 тысяч лет наза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Картинка 1 из 15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7120" y="2786040"/>
            <a:ext cx="3071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ЛЕНТА ВРЕМЕНИ  </a:t>
            </a:r>
            <a:br>
              <a:rPr sz="4000"/>
            </a:b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(4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22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Что было раньше и на скольк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40 год до нашей эры или 40 год нашей эры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">
            <a:hlinkClick r:id="rId1" action="ppaction://hlinksldjump"/>
          </p:cNvPr>
          <p:cNvSpPr/>
          <p:nvPr/>
        </p:nvSpPr>
        <p:spPr>
          <a:xfrm>
            <a:off x="7993080" y="6281640"/>
            <a:ext cx="1150920" cy="576360"/>
          </a:xfrm>
          <a:custGeom>
            <a:avLst/>
            <a:gdLst>
              <a:gd name="textAreaLeft" fmla="*/ 37080 w 1150920"/>
              <a:gd name="textAreaRight" fmla="*/ 1113840 w 1150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3119" h="21600">
                <a:moveTo>
                  <a:pt x="0" y="0"/>
                </a:moveTo>
                <a:lnTo>
                  <a:pt x="43119" y="0"/>
                </a:lnTo>
                <a:lnTo>
                  <a:pt x="43119" y="21600"/>
                </a:lnTo>
                <a:lnTo>
                  <a:pt x="0" y="21600"/>
                </a:lnTo>
                <a:close/>
              </a:path>
              <a:path fill="lightenLess" w="43119" h="21600">
                <a:moveTo>
                  <a:pt x="0" y="0"/>
                </a:moveTo>
                <a:lnTo>
                  <a:pt x="43119" y="0"/>
                </a:lnTo>
                <a:lnTo>
                  <a:pt x="41719" y="1400"/>
                </a:lnTo>
                <a:lnTo>
                  <a:pt x="1400" y="1400"/>
                </a:lnTo>
                <a:close/>
              </a:path>
              <a:path fill="darken" w="43119" h="21600">
                <a:moveTo>
                  <a:pt x="43119" y="0"/>
                </a:moveTo>
                <a:lnTo>
                  <a:pt x="43119" y="21600"/>
                </a:lnTo>
                <a:lnTo>
                  <a:pt x="41719" y="20200"/>
                </a:lnTo>
                <a:lnTo>
                  <a:pt x="41719" y="1400"/>
                </a:lnTo>
                <a:close/>
              </a:path>
              <a:path fill="darkenLess" w="43119" h="21600">
                <a:moveTo>
                  <a:pt x="43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19" y="20200"/>
                </a:lnTo>
                <a:close/>
              </a:path>
              <a:path fill="lighten" w="43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19" h="21600">
                <a:moveTo>
                  <a:pt x="14553" y="10800"/>
                </a:moveTo>
                <a:lnTo>
                  <a:pt x="28566" y="3794"/>
                </a:lnTo>
                <a:lnTo>
                  <a:pt x="285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1143000" y="4365720"/>
            <a:ext cx="671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ff9900"/>
                </a:solidFill>
                <a:latin typeface="Times New Roman"/>
              </a:rPr>
              <a:t>40 год до нашей эры на 80 ле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ЗАНЯТИЯ ДРЕВНИХ ЛЮДЕЙ  </a:t>
            </a:r>
            <a:br>
              <a:rPr sz="4000"/>
            </a:b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(1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43040" y="1499760"/>
            <a:ext cx="75009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оте во время археологических раскопок было найдено 339 каменных орудий и свыше 10000 обломков костей животных. Из общего количества костей удалось установить принадлежность 948. Из них лошади -2, медведя-2, горного козла- 767, леопарда -1. Определите главное занятие обитателей грота ?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>
            <a:hlinkClick r:id="rId1" action="ppaction://hlinksldjump"/>
          </p:cNvPr>
          <p:cNvSpPr/>
          <p:nvPr/>
        </p:nvSpPr>
        <p:spPr>
          <a:xfrm>
            <a:off x="7993080" y="6281640"/>
            <a:ext cx="1150920" cy="576360"/>
          </a:xfrm>
          <a:custGeom>
            <a:avLst/>
            <a:gdLst>
              <a:gd name="textAreaLeft" fmla="*/ 37080 w 1150920"/>
              <a:gd name="textAreaRight" fmla="*/ 1113840 w 1150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3119" h="21600">
                <a:moveTo>
                  <a:pt x="0" y="0"/>
                </a:moveTo>
                <a:lnTo>
                  <a:pt x="43119" y="0"/>
                </a:lnTo>
                <a:lnTo>
                  <a:pt x="43119" y="21600"/>
                </a:lnTo>
                <a:lnTo>
                  <a:pt x="0" y="21600"/>
                </a:lnTo>
                <a:close/>
              </a:path>
              <a:path fill="lightenLess" w="43119" h="21600">
                <a:moveTo>
                  <a:pt x="0" y="0"/>
                </a:moveTo>
                <a:lnTo>
                  <a:pt x="43119" y="0"/>
                </a:lnTo>
                <a:lnTo>
                  <a:pt x="41719" y="1400"/>
                </a:lnTo>
                <a:lnTo>
                  <a:pt x="1400" y="1400"/>
                </a:lnTo>
                <a:close/>
              </a:path>
              <a:path fill="darken" w="43119" h="21600">
                <a:moveTo>
                  <a:pt x="43119" y="0"/>
                </a:moveTo>
                <a:lnTo>
                  <a:pt x="43119" y="21600"/>
                </a:lnTo>
                <a:lnTo>
                  <a:pt x="41719" y="20200"/>
                </a:lnTo>
                <a:lnTo>
                  <a:pt x="41719" y="1400"/>
                </a:lnTo>
                <a:close/>
              </a:path>
              <a:path fill="darkenLess" w="43119" h="21600">
                <a:moveTo>
                  <a:pt x="43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19" y="20200"/>
                </a:lnTo>
                <a:close/>
              </a:path>
              <a:path fill="lighten" w="43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19" h="21600">
                <a:moveTo>
                  <a:pt x="14553" y="10800"/>
                </a:moveTo>
                <a:lnTo>
                  <a:pt x="28566" y="3794"/>
                </a:lnTo>
                <a:lnTo>
                  <a:pt x="285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214720" y="5643720"/>
            <a:ext cx="578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Охо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Картинка 45 из 505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2071800"/>
            <a:ext cx="200016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ЗАНЯТИЯ ДРЕВНИХ ЛЮДЕЙ  </a:t>
            </a:r>
            <a:br>
              <a:rPr sz="4000"/>
            </a:b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(2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Назовите древнейшие орудия труд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4">
            <a:hlinkClick r:id="rId1" action="ppaction://hlinksldjump"/>
          </p:cNvPr>
          <p:cNvSpPr/>
          <p:nvPr/>
        </p:nvSpPr>
        <p:spPr>
          <a:xfrm>
            <a:off x="7993080" y="6281640"/>
            <a:ext cx="1150920" cy="576360"/>
          </a:xfrm>
          <a:custGeom>
            <a:avLst/>
            <a:gdLst>
              <a:gd name="textAreaLeft" fmla="*/ 37080 w 1150920"/>
              <a:gd name="textAreaRight" fmla="*/ 1113840 w 1150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3119" h="21600">
                <a:moveTo>
                  <a:pt x="0" y="0"/>
                </a:moveTo>
                <a:lnTo>
                  <a:pt x="43119" y="0"/>
                </a:lnTo>
                <a:lnTo>
                  <a:pt x="43119" y="21600"/>
                </a:lnTo>
                <a:lnTo>
                  <a:pt x="0" y="21600"/>
                </a:lnTo>
                <a:close/>
              </a:path>
              <a:path fill="lightenLess" w="43119" h="21600">
                <a:moveTo>
                  <a:pt x="0" y="0"/>
                </a:moveTo>
                <a:lnTo>
                  <a:pt x="43119" y="0"/>
                </a:lnTo>
                <a:lnTo>
                  <a:pt x="41719" y="1400"/>
                </a:lnTo>
                <a:lnTo>
                  <a:pt x="1400" y="1400"/>
                </a:lnTo>
                <a:close/>
              </a:path>
              <a:path fill="darken" w="43119" h="21600">
                <a:moveTo>
                  <a:pt x="43119" y="0"/>
                </a:moveTo>
                <a:lnTo>
                  <a:pt x="43119" y="21600"/>
                </a:lnTo>
                <a:lnTo>
                  <a:pt x="41719" y="20200"/>
                </a:lnTo>
                <a:lnTo>
                  <a:pt x="41719" y="1400"/>
                </a:lnTo>
                <a:close/>
              </a:path>
              <a:path fill="darkenLess" w="43119" h="21600">
                <a:moveTo>
                  <a:pt x="43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19" y="20200"/>
                </a:lnTo>
                <a:close/>
              </a:path>
              <a:path fill="lighten" w="43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19" h="21600">
                <a:moveTo>
                  <a:pt x="14553" y="10800"/>
                </a:moveTo>
                <a:lnTo>
                  <a:pt x="28566" y="3794"/>
                </a:lnTo>
                <a:lnTo>
                  <a:pt x="285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285840" y="3786120"/>
            <a:ext cx="84294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Рубило, палка-копалка, дуби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20:07:39Z</dcterms:created>
  <dc:creator>ИГОРЕВИЧ</dc:creator>
  <dc:description/>
  <dc:language>en-US</dc:language>
  <cp:lastModifiedBy>ВИКА</cp:lastModifiedBy>
  <dcterms:modified xsi:type="dcterms:W3CDTF">2015-09-29T18:16:46Z</dcterms:modified>
  <cp:revision>202</cp:revision>
  <dc:subject/>
  <dc:title>«ТВОЯ ИГРА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