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1.gif" ContentType="image/gif"/>
  <Override PartName="/ppt/media/image14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0D7-524A-4F69-9A5E-18BDB373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362-F79E-49B1-9122-97EC9A7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DBB-065B-42AD-930A-8816B1BA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3E4-47BF-4BF1-AE67-819451F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B59-A7E8-4C59-A802-0E827B35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A25A-34C2-4BC1-B2B0-123D8305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357-76A4-4F35-9C5C-606BCF5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48E-4211-4649-9729-5E55E5F4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AC58-3B50-4EE8-BE48-712A572D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71D-57F1-4F7C-B50F-459AB24E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EBA1-B013-49F0-83A9-E899B4A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333-4A79-41F9-ACE3-C2E5C9FF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12E-C025-4174-A375-F420E34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94E9-D5EB-4368-B10C-B3EA616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060-E9F2-4BC4-A730-4E758D3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019-DDFF-4237-B9DF-54C8CB6C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C2CA-4CAB-4C70-8A62-6DB279BB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71E3-C7E8-49CE-A4F5-36E471F3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A2E5-A697-4330-AE7D-F8B96B43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AA9D-31F7-4897-9B46-4EBC53D0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A45B-F892-4288-A29B-A437F903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6886-289E-4719-A2E0-66E8F9A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AB8-9D73-4D82-BCFA-6A1B104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B5D8-7B50-4827-8601-4DC75B0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CC9C-FE75-4E21-AB36-63E8DEF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476D-0C67-4E3E-B5F3-AE09E76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D029-D3B0-4496-A5C0-636964A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D673-7961-4C67-9EAA-EF7E47D7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1B1A-44A8-4738-8606-DA28B713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DCA2-726B-426C-AA43-CC16C293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25F-A8C9-4AC2-AA9A-6F135DBA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008-4D29-4E4B-9C40-1300994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CB-2A42-48B8-B125-508C177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B0B-F697-447B-8C8A-0B76FA1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ACD-12E9-48B6-AD31-0354E60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C9F-894C-41C2-8F48-DAA959C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7EE-B2D1-46BA-8F8E-26C4562089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EA7-DE67-43D8-AAF3-B3A1D6AF3A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FC0-015C-490B-A207-56531AB581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Documents and Settings\весна2010\Мои документы\Fotolia_Scott-Rothstein_01.jpg"/>
          <p:cNvPicPr/>
          <p:nvPr/>
        </p:nvPicPr>
        <p:blipFill>
          <a:blip r:embed="rId1"/>
          <a:stretch/>
        </p:blipFill>
        <p:spPr>
          <a:xfrm>
            <a:off x="450720" y="219240"/>
            <a:ext cx="4469040" cy="2858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весна2010\Рабочий стол\ШКОЛА-ЮЛЯ\ЮЛЁК\САЙТ\106a.jpg"/>
          <p:cNvPicPr/>
          <p:nvPr/>
        </p:nvPicPr>
        <p:blipFill>
          <a:blip r:embed="rId2"/>
          <a:stretch/>
        </p:blipFill>
        <p:spPr>
          <a:xfrm>
            <a:off x="3267000" y="920880"/>
            <a:ext cx="28846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1"/>
          <p:cNvGrpSpPr/>
          <p:nvPr/>
        </p:nvGrpSpPr>
        <p:grpSpPr>
          <a:xfrm>
            <a:off x="152280" y="2846520"/>
            <a:ext cx="8547120" cy="869760"/>
            <a:chOff x="152280" y="2846520"/>
            <a:chExt cx="8547120" cy="869760"/>
          </a:xfrm>
        </p:grpSpPr>
        <p:pic>
          <p:nvPicPr>
            <p:cNvPr id="126" name="Text Box 11" descr=""/>
            <p:cNvPicPr/>
            <p:nvPr/>
          </p:nvPicPr>
          <p:blipFill>
            <a:blip r:embed="rId3"/>
            <a:stretch/>
          </p:blipFill>
          <p:spPr>
            <a:xfrm>
              <a:off x="152280" y="2846520"/>
              <a:ext cx="854712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214200" y="2998440"/>
              <a:ext cx="8429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Text Box 3"/>
          <p:cNvGrpSpPr/>
          <p:nvPr/>
        </p:nvGrpSpPr>
        <p:grpSpPr>
          <a:xfrm>
            <a:off x="1298520" y="4846680"/>
            <a:ext cx="6686640" cy="1352520"/>
            <a:chOff x="1298520" y="4846680"/>
            <a:chExt cx="6686640" cy="1352520"/>
          </a:xfrm>
        </p:grpSpPr>
        <p:pic>
          <p:nvPicPr>
            <p:cNvPr id="129" name="Text Box 3" descr=""/>
            <p:cNvPicPr/>
            <p:nvPr/>
          </p:nvPicPr>
          <p:blipFill>
            <a:blip r:embed="rId4"/>
            <a:stretch/>
          </p:blipFill>
          <p:spPr>
            <a:xfrm>
              <a:off x="1298520" y="4846680"/>
              <a:ext cx="66866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"/>
            <p:cNvSpPr/>
            <p:nvPr/>
          </p:nvSpPr>
          <p:spPr>
            <a:xfrm>
              <a:off x="1357200" y="4929120"/>
              <a:ext cx="657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Интегрированный урок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(химия + физика)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11 класс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92dfb"/>
                </a:solidFill>
                <a:latin typeface="Monotype Corsiva"/>
              </a:rPr>
              <a:t>Зрительная гимнастика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Georgia"/>
              </a:rPr>
              <a:t>Тренажер Базарного В.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4" descr="articles/312963/image1.jpg (13753 bytes)"/>
          <p:cNvPicPr/>
          <p:nvPr/>
        </p:nvPicPr>
        <p:blipFill>
          <a:blip r:embed="rId1"/>
          <a:stretch/>
        </p:blipFill>
        <p:spPr>
          <a:xfrm>
            <a:off x="1042920" y="256536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226" name="Extract from CD 6 - Track 5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10557"/>
                            </p:stCondLst>
                            <p:childTnLst>
                              <p:par>
                                <p:cTn id="2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рытие предметов слоем благородного металл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09_big"/>
          <p:cNvPicPr/>
          <p:nvPr/>
        </p:nvPicPr>
        <p:blipFill>
          <a:blip r:embed="rId1"/>
          <a:stretch/>
        </p:blipFill>
        <p:spPr>
          <a:xfrm>
            <a:off x="1258920" y="1700280"/>
            <a:ext cx="734544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купол с сусальным золотом"/>
          <p:cNvPicPr/>
          <p:nvPr/>
        </p:nvPicPr>
        <p:blipFill>
          <a:blip r:embed="rId1"/>
          <a:stretch/>
        </p:blipFill>
        <p:spPr>
          <a:xfrm>
            <a:off x="1857240" y="214200"/>
            <a:ext cx="6072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гальваностегия"/>
          <p:cNvPicPr/>
          <p:nvPr/>
        </p:nvPicPr>
        <p:blipFill>
          <a:blip r:embed="rId1"/>
          <a:stretch/>
        </p:blipFill>
        <p:spPr>
          <a:xfrm>
            <a:off x="0" y="285840"/>
            <a:ext cx="5848200" cy="588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медб - гальваностегия"/>
          <p:cNvPicPr/>
          <p:nvPr/>
        </p:nvPicPr>
        <p:blipFill>
          <a:blip r:embed="rId2"/>
          <a:stretch/>
        </p:blipFill>
        <p:spPr>
          <a:xfrm>
            <a:off x="5857920" y="0"/>
            <a:ext cx="320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получение электролитическим способом более толстых отложений (до нескольких миллиметров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ПЛАСТИ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9" descr="FIG13"/>
          <p:cNvPicPr/>
          <p:nvPr/>
        </p:nvPicPr>
        <p:blipFill>
          <a:blip r:embed="rId1"/>
          <a:stretch/>
        </p:blipFill>
        <p:spPr>
          <a:xfrm>
            <a:off x="5786280" y="2643120"/>
            <a:ext cx="2511720" cy="3733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928800" y="400068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дения искусств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ельефы для:       Исаакиевского 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барельеф исаакиевского собора"/>
          <p:cNvPicPr/>
          <p:nvPr/>
        </p:nvPicPr>
        <p:blipFill>
          <a:blip r:embed="rId1"/>
          <a:stretch/>
        </p:blipFill>
        <p:spPr>
          <a:xfrm>
            <a:off x="900000" y="170028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25992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павловск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6" descr="петропавловский собор3"/>
          <p:cNvPicPr/>
          <p:nvPr/>
        </p:nvPicPr>
        <p:blipFill>
          <a:blip r:embed="rId1"/>
          <a:stretch/>
        </p:blipFill>
        <p:spPr>
          <a:xfrm>
            <a:off x="2556000" y="865080"/>
            <a:ext cx="4209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рмита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4" descr="барельеф эрмитажа"/>
          <p:cNvPicPr/>
          <p:nvPr/>
        </p:nvPicPr>
        <p:blipFill>
          <a:blip r:embed="rId1"/>
          <a:stretch/>
        </p:blipFill>
        <p:spPr>
          <a:xfrm>
            <a:off x="1979640" y="836640"/>
            <a:ext cx="5700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весна2010\Мои документы\CrystalCity.jpg"/>
          <p:cNvPicPr/>
          <p:nvPr/>
        </p:nvPicPr>
        <p:blipFill>
          <a:blip r:embed="rId1"/>
          <a:stretch/>
        </p:blipFill>
        <p:spPr>
          <a:xfrm>
            <a:off x="4368960" y="808200"/>
            <a:ext cx="4730760" cy="308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весна2010\Мои документы\image_24866.thumbnail.jpg"/>
          <p:cNvPicPr/>
          <p:nvPr/>
        </p:nvPicPr>
        <p:blipFill>
          <a:blip r:embed="rId2"/>
          <a:stretch/>
        </p:blipFill>
        <p:spPr>
          <a:xfrm>
            <a:off x="-376200" y="1125360"/>
            <a:ext cx="4357800" cy="344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весна2010\Мои документы\photo_9_l.jpg"/>
          <p:cNvPicPr/>
          <p:nvPr/>
        </p:nvPicPr>
        <p:blipFill>
          <a:blip r:embed="rId3"/>
          <a:stretch/>
        </p:blipFill>
        <p:spPr>
          <a:xfrm>
            <a:off x="-352440" y="3639960"/>
            <a:ext cx="5280120" cy="377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весна2010\Мои документы\Waseda-University-heartbeat-compensation-robot.jpg"/>
          <p:cNvPicPr/>
          <p:nvPr/>
        </p:nvPicPr>
        <p:blipFill>
          <a:blip r:embed="rId4"/>
          <a:stretch/>
        </p:blipFill>
        <p:spPr>
          <a:xfrm>
            <a:off x="3664080" y="3341520"/>
            <a:ext cx="5479920" cy="3511800"/>
          </a:xfrm>
          <a:prstGeom prst="rect">
            <a:avLst/>
          </a:prstGeom>
          <a:ln w="0">
            <a:noFill/>
          </a:ln>
        </p:spPr>
      </p:pic>
      <p:grpSp>
        <p:nvGrpSpPr>
          <p:cNvPr id="135" name="Text Box 3"/>
          <p:cNvGrpSpPr/>
          <p:nvPr/>
        </p:nvGrpSpPr>
        <p:grpSpPr>
          <a:xfrm>
            <a:off x="1782720" y="0"/>
            <a:ext cx="7245360" cy="3739320"/>
            <a:chOff x="1782720" y="0"/>
            <a:chExt cx="7245360" cy="3739320"/>
          </a:xfrm>
        </p:grpSpPr>
        <p:pic>
          <p:nvPicPr>
            <p:cNvPr id="136" name="Text Box 3" descr=""/>
            <p:cNvPicPr/>
            <p:nvPr/>
          </p:nvPicPr>
          <p:blipFill>
            <a:blip r:embed="rId5"/>
            <a:stretch/>
          </p:blipFill>
          <p:spPr>
            <a:xfrm>
              <a:off x="1782720" y="0"/>
              <a:ext cx="7245360" cy="16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802880" y="232560"/>
              <a:ext cx="6565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Georgia"/>
                </a:rPr>
                <a:t>« Химик без знания физики подобен человеку, который все должен искать щупом» М.В.Ломоносов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мнего дворц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зимний дворец"/>
          <p:cNvPicPr/>
          <p:nvPr/>
        </p:nvPicPr>
        <p:blipFill>
          <a:blip r:embed="rId1"/>
          <a:stretch/>
        </p:blipFill>
        <p:spPr>
          <a:xfrm>
            <a:off x="826920" y="8794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ого теат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барельефы большого театра"/>
          <p:cNvPicPr/>
          <p:nvPr/>
        </p:nvPicPr>
        <p:blipFill>
          <a:blip r:embed="rId1"/>
          <a:stretch/>
        </p:blipFill>
        <p:spPr>
          <a:xfrm>
            <a:off x="900000" y="79200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ные клише для типограф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4" descr="клише"/>
          <p:cNvPicPr/>
          <p:nvPr/>
        </p:nvPicPr>
        <p:blipFill>
          <a:blip r:embed="rId1"/>
          <a:stretch/>
        </p:blipFill>
        <p:spPr>
          <a:xfrm>
            <a:off x="122400" y="839880"/>
            <a:ext cx="4464000" cy="2990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медные клише"/>
          <p:cNvPicPr/>
          <p:nvPr/>
        </p:nvPicPr>
        <p:blipFill>
          <a:blip r:embed="rId2"/>
          <a:stretch/>
        </p:blipFill>
        <p:spPr>
          <a:xfrm>
            <a:off x="4543560" y="839880"/>
            <a:ext cx="4500360" cy="3014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медных копий с моент, медалей1"/>
          <p:cNvPicPr/>
          <p:nvPr/>
        </p:nvPicPr>
        <p:blipFill>
          <a:blip r:embed="rId3"/>
          <a:stretch/>
        </p:blipFill>
        <p:spPr>
          <a:xfrm>
            <a:off x="1446120" y="3757680"/>
            <a:ext cx="6335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прессформы"/>
          <p:cNvPicPr/>
          <p:nvPr/>
        </p:nvPicPr>
        <p:blipFill>
          <a:blip r:embed="rId1"/>
          <a:stretch/>
        </p:blipFill>
        <p:spPr>
          <a:xfrm>
            <a:off x="4286160" y="2857680"/>
            <a:ext cx="4857840" cy="31431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28760" y="-360"/>
            <a:ext cx="7850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4" descr="прессформа"/>
          <p:cNvPicPr/>
          <p:nvPr/>
        </p:nvPicPr>
        <p:blipFill>
          <a:blip r:embed="rId2"/>
          <a:stretch/>
        </p:blipFill>
        <p:spPr>
          <a:xfrm>
            <a:off x="571680" y="1143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прессформы из металла"/>
          <p:cNvPicPr/>
          <p:nvPr/>
        </p:nvPicPr>
        <p:blipFill>
          <a:blip r:embed="rId2"/>
          <a:stretch/>
        </p:blipFill>
        <p:spPr>
          <a:xfrm>
            <a:off x="928800" y="1857240"/>
            <a:ext cx="72864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4" name="Text Box 11"/>
          <p:cNvGrpSpPr/>
          <p:nvPr/>
        </p:nvGrpSpPr>
        <p:grpSpPr>
          <a:xfrm>
            <a:off x="298440" y="1706400"/>
            <a:ext cx="8613720" cy="2921040"/>
            <a:chOff x="298440" y="1706400"/>
            <a:chExt cx="8613720" cy="2921040"/>
          </a:xfrm>
        </p:grpSpPr>
        <p:pic>
          <p:nvPicPr>
            <p:cNvPr id="265" name="Text Box 11" descr=""/>
            <p:cNvPicPr/>
            <p:nvPr/>
          </p:nvPicPr>
          <p:blipFill>
            <a:blip r:embed="rId1"/>
            <a:stretch/>
          </p:blipFill>
          <p:spPr>
            <a:xfrm>
              <a:off x="298440" y="1706400"/>
              <a:ext cx="861372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357120" y="2000160"/>
              <a:ext cx="8501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0" spc="-1" strike="noStrike">
                  <a:solidFill>
                    <a:srgbClr val="000000"/>
                  </a:solidFill>
                  <a:latin typeface="Georgia"/>
                </a:rPr>
                <a:t>Получение алюминия</a:t>
              </a:r>
              <a:endParaRPr b="0" lang="en-US" sz="8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весна2010\Мои документы\dis_01.gif"/>
          <p:cNvPicPr/>
          <p:nvPr/>
        </p:nvPicPr>
        <p:blipFill>
          <a:blip r:embed="rId1"/>
          <a:stretch/>
        </p:blipFill>
        <p:spPr>
          <a:xfrm>
            <a:off x="395280" y="155736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39920" y="357120"/>
            <a:ext cx="6500880" cy="58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080" y="-403560"/>
            <a:ext cx="1879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4454640" y="282420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5929200" y="321480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483080" y="279864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Стрелка вправо 13"/>
          <p:cNvSpPr/>
          <p:nvPr/>
        </p:nvSpPr>
        <p:spPr>
          <a:xfrm rot="10800000">
            <a:off x="5929200" y="28573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895480" y="1371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 C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21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22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23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Oval 24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943600" y="259092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Диссоциация других веществ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28600" y="5791320"/>
            <a:ext cx="8610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…. ионы металлов и водорода всегда заряжены….., а ионы кислотных радикалов и группы ОН - ..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1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1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2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2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ма урока. Электролиз. Закон электролиз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Text Box 3"/>
          <p:cNvGrpSpPr/>
          <p:nvPr/>
        </p:nvGrpSpPr>
        <p:grpSpPr>
          <a:xfrm>
            <a:off x="66600" y="706320"/>
            <a:ext cx="6334200" cy="1354320"/>
            <a:chOff x="66600" y="706320"/>
            <a:chExt cx="6334200" cy="1354320"/>
          </a:xfrm>
        </p:grpSpPr>
        <p:pic>
          <p:nvPicPr>
            <p:cNvPr id="177" name="Text Box 3" descr=""/>
            <p:cNvPicPr/>
            <p:nvPr/>
          </p:nvPicPr>
          <p:blipFill>
            <a:blip r:embed="rId1"/>
            <a:stretch/>
          </p:blipFill>
          <p:spPr>
            <a:xfrm>
              <a:off x="66600" y="706320"/>
              <a:ext cx="633420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14200" y="785880"/>
              <a:ext cx="61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оложительные ионы (катионы) движутся к катоду, отрицательные ионы (анионы) движутся к аноду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9" name="Line 4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93492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Oval 28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34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35"/>
          <p:cNvSpPr/>
          <p:nvPr/>
        </p:nvSpPr>
        <p:spPr>
          <a:xfrm>
            <a:off x="1697040" y="417096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215040" y="2643120"/>
            <a:ext cx="2681280" cy="1008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лектролиз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это процесс 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faraday_1"/>
          <p:cNvPicPr/>
          <p:nvPr/>
        </p:nvPicPr>
        <p:blipFill>
          <a:blip r:embed="rId1"/>
          <a:stretch/>
        </p:blipFill>
        <p:spPr>
          <a:xfrm>
            <a:off x="-152280" y="706320"/>
            <a:ext cx="4101840" cy="4719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57120" y="285840"/>
            <a:ext cx="814392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следовал электролиз и открыл его законы английский физик Майкл Фарадей в 1834 г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14200" y="5041800"/>
            <a:ext cx="3619440" cy="17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йкл Фарадей (1791 – 1867)      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071960" y="1500120"/>
            <a:ext cx="4643280" cy="24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ервый закон электролиз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214880" y="5000760"/>
                <a:ext cx="1447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4071960" y="4214880"/>
            <a:ext cx="48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охимический эквивалент веществ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286680" y="5000760"/>
                <a:ext cx="2090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.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йте массу меди, полученной при электролизе водного раствора сульфата меди c графитовыми электродами,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если на аноде выделилось 6,4 г кислород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физ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хим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стеги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38926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это процесс, который позволяет покрыть изделие слоем (плёнкой) благородного металла защитить его от коррозии, повысить стойкость на износ, произвести отделку изделий. Гальванические цеха есть на многих металлургических и других завод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image001"/>
          <p:cNvPicPr/>
          <p:nvPr/>
        </p:nvPicPr>
        <p:blipFill>
          <a:blip r:embed="rId1"/>
          <a:stretch/>
        </p:blipFill>
        <p:spPr>
          <a:xfrm>
            <a:off x="146160" y="1928880"/>
            <a:ext cx="4983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0:50:27Z</dcterms:created>
  <dc:creator>2</dc:creator>
  <dc:description/>
  <dc:language>en-US</dc:language>
  <cp:lastModifiedBy>1</cp:lastModifiedBy>
  <dcterms:modified xsi:type="dcterms:W3CDTF">2019-12-24T22:03:25Z</dcterms:modified>
  <cp:revision>82</cp:revision>
  <dc:subject/>
  <dc:title>ЭЛЕКТРОЛИЗ</dc:title>
</cp:coreProperties>
</file>